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C29-7F77-468F-B1F6-E3E873A6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A42-13DE-411C-AAB6-ECA0353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FCB-2FAB-4FE3-9FFD-B6BB5104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CD1-BA66-45C7-B8A4-ABECD10B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6AEF-D607-4E41-B18D-76802ABE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2A1-0901-4B17-BEF0-899D7BB7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641E-ACF3-4A70-B5F9-BCE5B74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5390-4C8B-422F-A694-5094D529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F7C7-FA92-4596-AB4A-028C4BC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9A72-07A4-4BF1-A481-804A045C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EB45-49B4-46BC-8D40-5387DE2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365-E7B1-4FF6-B1C5-BBE8D0A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A543-BBAE-4D70-BEA4-93B05EC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DB7C-FA24-4F6B-AF62-C0F8A87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393C-BD17-4A17-8D5C-1B7FC760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8F0F-01EA-4F67-A319-41E8DC00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F94-E5E5-4D86-80A5-766AEFBD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59262-34C4-4610-8D13-3B24D3AE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ACEB9-2185-4CB2-9EA0-633FC48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6D28F-B0BD-4984-9B34-BB30A8BD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AC0BE-E5E2-44A9-A388-24C90F37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49591-FAF1-4666-B2ED-CDBCF35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B73-652A-4571-99CC-A1333BF3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07C7F-B8AE-492B-AB85-A7E283E9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9B38B-F022-4DCF-92C9-D49A200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9FE6B-AF76-4354-B376-55BD0AE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FFFAD-64F3-4D33-9C5A-A54629F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88CE0-46A5-478F-87BE-A4FE697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88E41-DD43-46D9-AF28-30319BD4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02169-020D-469F-9AC5-97B74776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A05-9824-4C7F-B792-9B1D5B7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F06-235E-4CE6-A8F3-9AE1D467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CEE-96B9-4C65-A85A-E7D974D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7C1-FCE0-4438-81CD-4380B362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987-356B-48B2-8527-F197556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A9C-A799-4D55-B94A-94D2290B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B751-58B5-4DEB-B7AE-1BE17A546966}" type="slidenum">
              <a:rPr b="0" lang="ru-RU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AE9B-7203-4DDC-82CD-32807EA6A95C}" type="slidenum">
              <a:rPr b="0" lang="ru-RU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5B0-81F5-42E4-82BB-E7F3EF3642A7}" type="slidenum">
              <a:rPr b="0" lang="ru-RU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semya-i-deti.jpeg"/>
          <p:cNvPicPr/>
          <p:nvPr/>
        </p:nvPicPr>
        <p:blipFill>
          <a:blip r:embed="rId1"/>
          <a:stretch/>
        </p:blipFill>
        <p:spPr>
          <a:xfrm>
            <a:off x="853920" y="901800"/>
            <a:ext cx="2791080" cy="198756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2" descr=""/>
          <p:cNvPicPr/>
          <p:nvPr/>
        </p:nvPicPr>
        <p:blipFill>
          <a:blip r:embed="rId2"/>
          <a:stretch/>
        </p:blipFill>
        <p:spPr>
          <a:xfrm>
            <a:off x="225360" y="1974960"/>
            <a:ext cx="8955000" cy="189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тарший инспектор Национального центра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усыновления Министерства образования Республики Беларусь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отапенко Елена Валентиновн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онные ресурсы сопровождения замещающих семей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73" name="Picture 2" descr="D:\МЕТОДИЧЕСКИЕ РЕКОМЕНДАЦИИ\НЦУ2.jpg"/>
          <p:cNvPicPr/>
          <p:nvPr/>
        </p:nvPicPr>
        <p:blipFill>
          <a:blip r:embed="rId1"/>
          <a:stretch/>
        </p:blipFill>
        <p:spPr>
          <a:xfrm>
            <a:off x="1908000" y="1773360"/>
            <a:ext cx="5688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0520" y="198108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порта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tp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//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domu.b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роли ДИУ как  службы  по семейному  устройству  своих воспитанни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и прозрачность семейного устройства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зультаты: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 2,5 года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портал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4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размещенных на портале, воспитываются в  семьях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ыновлено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но под  опеку,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 приемную семью,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 ДДСТ,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вращено родителям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76" name="Рисунок 3" descr="dadomu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65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user\Desktop\Фестиваль усыновителей 2015 фото\15032015-2.jpg"/>
          <p:cNvPicPr/>
          <p:nvPr/>
        </p:nvPicPr>
        <p:blipFill>
          <a:blip r:embed="rId2"/>
          <a:stretch/>
        </p:blipFill>
        <p:spPr>
          <a:xfrm>
            <a:off x="5943600" y="2362320"/>
            <a:ext cx="2735280" cy="2376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6172200" y="525780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, 2012 г.р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 в марте 2015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порт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1571" t="14353" r="1937" b="7772"/>
          <a:stretch/>
        </p:blipFill>
        <p:spPr>
          <a:xfrm>
            <a:off x="990720" y="0"/>
            <a:ext cx="7467480" cy="3733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721" t="26031" r="2560" b="5192"/>
          <a:stretch/>
        </p:blipFill>
        <p:spPr>
          <a:xfrm>
            <a:off x="990720" y="3657600"/>
            <a:ext cx="7467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0" lang="ru-RU" sz="5000" spc="-1" strike="noStrike">
                <a:solidFill>
                  <a:srgbClr val="10253f"/>
                </a:solidFill>
                <a:latin typeface="Calibri"/>
              </a:rPr>
              <a:t>Чтобы все дети жили дома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8120" y="1855800"/>
            <a:ext cx="1449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6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1298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8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52680" y="2514240"/>
            <a:ext cx="114480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4720" y="2514240"/>
            <a:ext cx="137484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6" name="Picture 2" descr="C:\Users\Администратор\Desktop\Дети дома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278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Количество усыновлений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9" name="Содержимое 3" descr=""/>
          <p:cNvPicPr/>
          <p:nvPr/>
        </p:nvPicPr>
        <p:blipFill>
          <a:blip r:embed="rId1"/>
          <a:stretch/>
        </p:blipFill>
        <p:spPr>
          <a:xfrm>
            <a:off x="406440" y="1854360"/>
            <a:ext cx="8331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Количество усыновлений </a:t>
            </a: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2015 год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905120"/>
          <a:ext cx="4114800" cy="4754520"/>
        </p:xfrm>
        <a:graphic>
          <a:graphicData uri="http://schemas.openxmlformats.org/drawingml/2006/table">
            <a:tbl>
              <a:tblPr/>
              <a:tblGrid>
                <a:gridCol w="335268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лоб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г. Гом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ч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ый г. Гом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зы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уш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нкович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гаче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нодорожный г. Гом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белицкий г. Гом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льч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8320" y="1905120"/>
          <a:ext cx="4114800" cy="4763880"/>
        </p:xfrm>
        <a:graphic>
          <a:graphicData uri="http://schemas.openxmlformats.org/drawingml/2006/table">
            <a:tbl>
              <a:tblPr/>
              <a:tblGrid>
                <a:gridCol w="335268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а-Кошеле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мя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ик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че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г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кович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лог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йник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к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е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вля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Отмены усыновл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1523880"/>
          <a:ext cx="6629400" cy="477216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мен усы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м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ин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. Мин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теб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однен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ест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гилев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Возраст детей, </a:t>
            </a: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подлежащих усыновлению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nstantia"/>
              </a:rPr>
              <a:t>В республиканском банке данных состоит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nstantia"/>
              </a:rPr>
              <a:t>1 951 </a:t>
            </a:r>
            <a:r>
              <a:rPr b="1" lang="ru-RU" sz="2600" spc="-1" strike="noStrike">
                <a:solidFill>
                  <a:srgbClr val="cc0000"/>
                </a:solidFill>
                <a:latin typeface="Constantia"/>
              </a:rPr>
              <a:t>ребенок Гомельской обл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7" name="Object 4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    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Усыновление в цифрах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152280" y="1447920"/>
          <a:ext cx="883944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83944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2" descr=""/>
          <p:cNvPicPr/>
          <p:nvPr/>
        </p:nvPicPr>
        <p:blipFill>
          <a:blip r:embed="rId1"/>
          <a:stretch/>
        </p:blipFill>
        <p:spPr>
          <a:xfrm>
            <a:off x="749160" y="328680"/>
            <a:ext cx="8047080" cy="1268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5580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179280" y="1557360"/>
            <a:ext cx="8785440" cy="1942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уководител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ских интернатных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реждени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государственны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ециализированных учреждений для несовершеннолетних, нуждающихся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циальной помощи и реабилитации, государственных учреждений, обеспечивающи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учение профессионально-технического, среднего специального, высш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разования, в которых воспитываются дети-сироты и дети, оставшиеся бе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печения родителей,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язаны в 7-дневный срок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 дня, когда им стало известно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что ребенок может быть передан на воспитание в семью,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полнить ЛКР-У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править в орган опеки и попечительства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месту нахождения учреж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4"/>
          <p:cNvSpPr/>
          <p:nvPr/>
        </p:nvSpPr>
        <p:spPr>
          <a:xfrm>
            <a:off x="179280" y="3789360"/>
            <a:ext cx="8785440" cy="1585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Орган опеки и попечительства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поступлении сведений о детях-сиротах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ях, оставшихся без попечения родителей, обеспечивает их устройство в теч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сяца на воспитание в семью. 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При невозможности передать ребенка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воспитание в семью родственников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рган опеки и попечительства 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направляет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ведения о таком ребенке 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(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ЛКР-У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) 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по истечении месячного срока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в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Национальный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953735"/>
                </a:solidFill>
                <a:latin typeface="Arial"/>
              </a:rPr>
              <a:t>центр усыновления</a:t>
            </a:r>
            <a:r>
              <a:rPr b="0" lang="ru-RU" sz="15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инистерства образования 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5"/>
          <p:cNvSpPr/>
          <p:nvPr/>
        </p:nvSpPr>
        <p:spPr>
          <a:xfrm>
            <a:off x="179280" y="5661000"/>
            <a:ext cx="8785440" cy="934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циональный центр усыновления в 7-дневный ср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 дня получ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КР-У вносит сведения о детях, подлежащих усыновлению,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еспубликанский банк данных об усыновлении (удочерении) детей-сиро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 детей, оставшихся без попечения родите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3"/>
          <p:cNvSpPr/>
          <p:nvPr/>
        </p:nvSpPr>
        <p:spPr>
          <a:xfrm>
            <a:off x="3851280" y="3500280"/>
            <a:ext cx="576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4"/>
          <p:cNvSpPr/>
          <p:nvPr/>
        </p:nvSpPr>
        <p:spPr>
          <a:xfrm>
            <a:off x="3851280" y="537372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Calibri"/>
              </a:rPr>
              <a:t>Правовая база усыновлени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декс Республики Беларусь о браке и семье (с изм. и  доп. </a:t>
            </a:r>
            <a:r>
              <a:rPr b="0" lang="ru-RU" sz="2000" spc="-1" strike="noStrike">
                <a:solidFill>
                  <a:srgbClr val="800080"/>
                </a:solidFill>
                <a:latin typeface="Constantia"/>
              </a:rPr>
              <a:t>2012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года) – гл. 13, 2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ТАНОВЛЕНИЕ СОВЕТА МИНИСТРОВ РЕСПУБЛИКИ БЕЛАРУСЬ от 28 февраля 2006 г. №290 «Об утверждении Положения о порядке передачи детей на усыновление (удочерение) и осуществления контроля за условиями жизни и воспитания детей в семьях усыновителей на территории Республики Беларусь» (с изм. и доп. </a:t>
            </a:r>
            <a:r>
              <a:rPr b="0" lang="ru-RU" sz="2000" spc="-1" strike="noStrike">
                <a:solidFill>
                  <a:srgbClr val="800080"/>
                </a:solidFill>
                <a:latin typeface="Constantia"/>
              </a:rPr>
              <a:t>2014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д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аз Президента Республики Беларусь от 30 июня 2014 г. №33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О государственной поддержке семей, усыновивших (удочеривших) детей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0" y="259056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5" descr="http://news.pulsportal.ru/wp-content/uploads/sites/3/2015/03/mamam.jpg"/>
          <p:cNvPicPr/>
          <p:nvPr/>
        </p:nvPicPr>
        <p:blipFill>
          <a:blip r:embed="rId1"/>
          <a:srcRect l="0" t="0" r="0" b="13459"/>
          <a:stretch/>
        </p:blipFill>
        <p:spPr>
          <a:xfrm>
            <a:off x="1066680" y="838080"/>
            <a:ext cx="6946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y</cp:lastModifiedBy>
  <dcterms:modified xsi:type="dcterms:W3CDTF">2016-03-04T05:46:2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